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0AD-9EA8-48FB-8D51-84C97FB1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56B-85D2-4030-86DB-784C933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484-45C1-4C47-B5A1-1F699930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F23-C5C7-4F3B-969F-B2186B0F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DD3-9288-49AF-84E9-E01C293F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E773-773A-4F6B-AF15-937C885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5794-2BA2-4624-995F-7DBE46EC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0F69-3C72-439B-84FC-CE6A1818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454-9DE6-4940-BB2D-454956B7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CB84-5574-4DF3-903D-8673B1FB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B6C-969E-4C13-8746-2BA65FE0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F1C-D00F-45B4-917A-4BFE400C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F6E4-9B3F-4152-9091-18D3350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7EF8-69BA-44FC-B5F2-1CA1848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2F4-3317-4D07-A447-5A936276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FA88-1157-4B66-AEEB-D2E3DD9A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3C68-85C7-4068-8E90-D064BA27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71E-3DBD-4925-911B-FECD3EB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719-7B8E-41FD-B811-0C36E038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C12-CC4F-468E-98D5-E633D1C5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50A-044C-4E0B-B7BD-2217BAA1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0DE-DD55-4A90-AFE5-408ABA8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B2B-1A1F-484C-9442-9238EED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36E-3415-459C-855A-70CA137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6F61-A0DD-4BD8-92DE-952B65D496D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F733-C6BC-41EA-9FC9-ACCB8E7E7E2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ill There Was No Remedy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ivided Kingdom -2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rter 7,  Lesson 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ges 150-1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Kings 23; 2 Chron. 34:29 – 36: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B7AE-31FD-49D1-9674-C3424700FC97}" type="slidenum">
              <a:t>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dah Lost God’s Bo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venant Renewed with Jehovah –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Kings 23:1-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could God’s people lose His boo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can we truly find it aga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we demand the “reading” of God’s boo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we pledge to read and obey it?  23:1-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6CF-E549-4CA9-A62A-59A03DF2893A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osiah’s Reign in Juda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s fight against idolatry 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Kings 23:4-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the presence of idolatry from God’s ho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the sympathizers of false religion from leadership posi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roy anything that honors false reli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 idolaters must not be honored, but sham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ember the prophecy made 300 years earlier - I Kings 13:2, 3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1FA-B942-4454-9D9C-C272756C06A5}" type="slidenum">
              <a:t>3</a:t>
            </a:fld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osiah’s Restorations</a:t>
            </a:r>
            <a:br>
              <a:rPr sz="44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 Kings 23:21-23; 2 Chron. 35:1-19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tored the Passov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k returned to it’s rightful pl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ing back into practice what has been neglec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k for the old paths – Jer. 6:1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vital is this for today’s religious worl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23C-EBC0-42E5-8B28-F17B3358A21B}" type="slidenum">
              <a:t>4</a:t>
            </a:fld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ical No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yria is weakening in pow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bylonians are becoming stron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bopolassar, a Chaldean, establishing power in Babyl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gypt (Pharaoh Necho) chose to help Assyria, fearing the rising Babylonia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bylonians defeated Assyria in 612 B.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88C-95B0-436A-B67E-FBDCEA9E0EB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osiah’s Death – </a:t>
            </a:r>
            <a:br>
              <a:rPr sz="44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2 Kings 23:29-30; 2 Chron. 35:20-27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ho claimed God sent him to help Assy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osiah did not want Egypt to help Assy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guised himself but was shot in battle by Egyptian arch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died and was buried in Jerusa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frame:  609 B.C. – 4 years before Judah’s f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ACA-9412-4EDA-B275-383A2C56B4B7}" type="slidenum">
              <a:t>6</a:t>
            </a:fld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ehoahaz (Shallum)</a:t>
            </a:r>
            <a:br>
              <a:rPr sz="36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2 Kings 23:30-34; 2 Chron. 36:1-4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igned 3 months (wick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araoh Necho imprisoned Jehoaha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as banished to Egypt, never to see Judah again, and died there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lso, Jer. 22:10-1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ced Judah to pay large tribu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alled Eliakim (Jehoiakim) to reign in the place of Jehoaha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ehoiakim and Jehoahaz were broth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9E8-10C4-4454-AFD5-79DBD13E0DF3}" type="slidenum">
              <a:t>7</a:t>
            </a:fld>
          </a:p>
        </p:txBody>
      </p: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59:44Z</dcterms:created>
  <dc:creator> Tab Vines</dc:creator>
  <dc:description/>
  <dc:language>en-US</dc:language>
  <cp:lastModifiedBy>Frank D Vines</cp:lastModifiedBy>
  <dcterms:modified xsi:type="dcterms:W3CDTF">2006-03-12T14:10:31Z</dcterms:modified>
  <cp:revision>9</cp:revision>
  <dc:subject/>
  <dc:title>Till There Was No Remedy Divided Kingdom -2</dc:title>
</cp:coreProperties>
</file>